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CF0-504E-45A1-B4AB-E1032581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DF7-C125-45B2-B039-4CF6185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5DB-9C23-43C3-B21D-D6C03D07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885-6318-45D0-BBBF-F5294C3B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5B8C-5EBE-40E1-9533-BACEE929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A23D-1D87-4D2F-9A28-C52BBF7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B27-F58A-487F-968D-B47E3AAE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14C6-C885-4686-A005-3A3DB9F0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CAF-C376-4B52-B539-42817FFE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159-E36F-480F-ADB1-3744B7E1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88E-0B97-4CBA-943A-74FF197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CBD-60A2-4D7F-85B5-0BBE2FA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7424-9D3D-4AF1-96E3-9ABF59D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064A-BDB3-4A3A-B5BD-D402B72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3D24-DA45-462D-89FC-900A17D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4F3B-C209-4299-B3CE-4B6A0ED6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39BE-3AF7-4F11-981F-25D814C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1FDF-B330-4AAE-9778-B2A53A3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0C92-970D-4260-BE6A-66D5FD0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192C-0F68-4E01-A96F-926A4CE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AB4F-7169-4B52-9B42-79032E1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75B0-C2FE-4B77-ADDA-FAF178A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79C-579D-4EB6-BCB3-D3D0540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8368-099F-4A21-89A4-CB71DD6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C29E-99F9-48A7-9C4D-EC51A2D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1B3B-9971-49B7-A09C-C0DFD08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75D6-59CB-4938-9774-92472F4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96AC-9A15-4C90-819C-B4914E0C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D052-13AC-4FC0-93D0-3CF3D3EF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2347-E456-41D8-9EDA-6B5B5FFC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B01A-D0A6-41D5-9A3E-DADE3DFA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0D47-27DC-407C-B3BE-BBA6B42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2C91-2F1B-4865-8553-76B69B2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EDE-B8BB-4DB1-A97E-40F18D8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CFCD-B2A7-4103-BC48-0AC52B45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002B-8A66-4E9D-9AA3-A529189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FC3B-5FE3-47E5-AE3F-2277A2FD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BBB4-AAAA-4BF2-AABC-57899DB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9BDA-4E26-4106-8FA0-F9CA324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D533-4D59-4924-AB0A-7186BD9B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3E53-E234-4F9F-98D2-AFF46C5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1581-909A-4341-9940-BDE3E1B5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4A04-1C51-4086-8616-A7194739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66E-4DFB-4D3F-BE51-67DAF87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0E2-6DA4-4E80-AF57-951EE2B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422-9243-46AD-907C-0D80CC14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CA8-C014-44BD-8A9A-0890D90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BDF-5B05-42AA-B3B8-460328C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EDD1-33C8-4FD2-8C60-F9A48C8955C6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C01-6EC5-4AEB-A173-C23362061898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63B3-B2D2-4FF4-8C1A-08E89DF2245A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7894-4AEF-4B79-8915-FED8E6C76DF5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Ania\AppData\Local\Microsoft\Windows\Temporary Internet Files\Content.IE5\AKSHKWQ7\MP900439294[1].jpg"/>
          <p:cNvPicPr/>
          <p:nvPr/>
        </p:nvPicPr>
        <p:blipFill>
          <a:blip r:embed="rId1"/>
          <a:srcRect l="21698" t="11208" r="16121" b="224"/>
          <a:stretch/>
        </p:blipFill>
        <p:spPr>
          <a:xfrm>
            <a:off x="6364440" y="1989000"/>
            <a:ext cx="1807920" cy="3845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61680" y="1074600"/>
            <a:ext cx="572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nstantia"/>
              </a:rPr>
              <a:t>Cechy podzielności liczb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ae51"/>
                </a:solidFill>
                <a:latin typeface="Franklin Gothic Book"/>
              </a:rPr>
              <a:t>prze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7" name="Group 448"/>
          <p:cNvGrpSpPr/>
          <p:nvPr/>
        </p:nvGrpSpPr>
        <p:grpSpPr>
          <a:xfrm>
            <a:off x="3314880" y="4267080"/>
            <a:ext cx="1134360" cy="844560"/>
            <a:chOff x="3314880" y="4267080"/>
            <a:chExt cx="1134360" cy="844560"/>
          </a:xfrm>
        </p:grpSpPr>
        <p:grpSp>
          <p:nvGrpSpPr>
            <p:cNvPr id="228" name="Grupa 13"/>
            <p:cNvGrpSpPr/>
            <p:nvPr/>
          </p:nvGrpSpPr>
          <p:grpSpPr>
            <a:xfrm>
              <a:off x="3314880" y="4312080"/>
              <a:ext cx="520920" cy="698760"/>
              <a:chOff x="3314880" y="4312080"/>
              <a:chExt cx="520920" cy="698760"/>
            </a:xfrm>
          </p:grpSpPr>
          <p:pic>
            <p:nvPicPr>
              <p:cNvPr id="229" name="Obraz 15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3314880" y="431208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Elipsa 16"/>
              <p:cNvSpPr/>
              <p:nvPr/>
            </p:nvSpPr>
            <p:spPr>
              <a:xfrm>
                <a:off x="3525120" y="436392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31" name="Elipsa 17"/>
              <p:cNvSpPr/>
              <p:nvPr/>
            </p:nvSpPr>
            <p:spPr>
              <a:xfrm>
                <a:off x="3609720" y="441756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32" name="Obraz 14" descr=""/>
            <p:cNvPicPr/>
            <p:nvPr/>
          </p:nvPicPr>
          <p:blipFill>
            <a:blip r:embed="rId3"/>
            <a:stretch/>
          </p:blipFill>
          <p:spPr>
            <a:xfrm>
              <a:off x="3650400" y="4267080"/>
              <a:ext cx="798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432"/>
          <p:cNvGrpSpPr/>
          <p:nvPr/>
        </p:nvGrpSpPr>
        <p:grpSpPr>
          <a:xfrm>
            <a:off x="4859280" y="4578480"/>
            <a:ext cx="1359000" cy="747720"/>
            <a:chOff x="4859280" y="4578480"/>
            <a:chExt cx="1359000" cy="747720"/>
          </a:xfrm>
        </p:grpSpPr>
        <p:pic>
          <p:nvPicPr>
            <p:cNvPr id="234" name="Obraz 6" descr=""/>
            <p:cNvPicPr/>
            <p:nvPr/>
          </p:nvPicPr>
          <p:blipFill>
            <a:blip r:embed="rId4"/>
            <a:stretch/>
          </p:blipFill>
          <p:spPr>
            <a:xfrm>
              <a:off x="5151600" y="4584960"/>
              <a:ext cx="702000" cy="74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434"/>
            <p:cNvGrpSpPr/>
            <p:nvPr/>
          </p:nvGrpSpPr>
          <p:grpSpPr>
            <a:xfrm>
              <a:off x="4859280" y="4578480"/>
              <a:ext cx="1359000" cy="741240"/>
              <a:chOff x="4859280" y="4578480"/>
              <a:chExt cx="1359000" cy="741240"/>
            </a:xfrm>
          </p:grpSpPr>
          <p:grpSp>
            <p:nvGrpSpPr>
              <p:cNvPr id="236" name="Grupa 8"/>
              <p:cNvGrpSpPr/>
              <p:nvPr/>
            </p:nvGrpSpPr>
            <p:grpSpPr>
              <a:xfrm>
                <a:off x="4859280" y="4618080"/>
                <a:ext cx="457920" cy="613080"/>
                <a:chOff x="4859280" y="4618080"/>
                <a:chExt cx="457920" cy="613080"/>
              </a:xfrm>
            </p:grpSpPr>
            <p:pic>
              <p:nvPicPr>
                <p:cNvPr id="237" name="Obraz 10" descr=""/>
                <p:cNvPicPr/>
                <p:nvPr/>
              </p:nvPicPr>
              <p:blipFill>
                <a:blip r:embed="rId5"/>
                <a:srcRect l="13896" t="0" r="16785" b="0"/>
                <a:stretch/>
              </p:blipFill>
              <p:spPr>
                <a:xfrm>
                  <a:off x="4859280" y="4618080"/>
                  <a:ext cx="457920" cy="61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Elipsa 11"/>
                <p:cNvSpPr/>
                <p:nvPr/>
              </p:nvSpPr>
              <p:spPr>
                <a:xfrm>
                  <a:off x="5044320" y="466344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  <p:sp>
              <p:nvSpPr>
                <p:cNvPr id="239" name="Elipsa 12"/>
                <p:cNvSpPr/>
                <p:nvPr/>
              </p:nvSpPr>
              <p:spPr>
                <a:xfrm>
                  <a:off x="5118480" y="471060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pic>
            <p:nvPicPr>
              <p:cNvPr id="240" name="Obraz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516280" y="4578480"/>
                <a:ext cx="702000" cy="74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Ania\AppData\Local\Microsoft\Windows\Temporary Internet Files\Content.IE5\FZ4DAB55\MP900439090[1]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75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2420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nstantia"/>
              </a:rPr>
              <a:t>Wybierz liczby podzielne przez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45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46" name="Grupa 6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47" name="Obraz 8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Elipsa 10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49" name="Elipsa 11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50" name="Obraz 7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pole tekstowe 3"/>
          <p:cNvSpPr/>
          <p:nvPr/>
        </p:nvSpPr>
        <p:spPr>
          <a:xfrm rot="781800">
            <a:off x="757800" y="2124360"/>
            <a:ext cx="6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ole tekstowe 15"/>
          <p:cNvSpPr/>
          <p:nvPr/>
        </p:nvSpPr>
        <p:spPr>
          <a:xfrm rot="781800">
            <a:off x="1324800" y="243936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0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ole tekstowe 16"/>
          <p:cNvSpPr/>
          <p:nvPr/>
        </p:nvSpPr>
        <p:spPr>
          <a:xfrm rot="781800">
            <a:off x="613080" y="28537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3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ole tekstowe 17"/>
          <p:cNvSpPr/>
          <p:nvPr/>
        </p:nvSpPr>
        <p:spPr>
          <a:xfrm rot="781800">
            <a:off x="2211840" y="25455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ole tekstowe 18"/>
          <p:cNvSpPr/>
          <p:nvPr/>
        </p:nvSpPr>
        <p:spPr>
          <a:xfrm rot="781800">
            <a:off x="5332320" y="52448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8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ole tekstowe 19"/>
          <p:cNvSpPr/>
          <p:nvPr/>
        </p:nvSpPr>
        <p:spPr>
          <a:xfrm rot="781800">
            <a:off x="1324800" y="3550320"/>
            <a:ext cx="7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3366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ole tekstowe 20"/>
          <p:cNvSpPr/>
          <p:nvPr/>
        </p:nvSpPr>
        <p:spPr>
          <a:xfrm rot="781800">
            <a:off x="2441880" y="40456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8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ole tekstowe 21"/>
          <p:cNvSpPr/>
          <p:nvPr/>
        </p:nvSpPr>
        <p:spPr>
          <a:xfrm rot="781800">
            <a:off x="647640" y="3758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10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ole tekstowe 22"/>
          <p:cNvSpPr/>
          <p:nvPr/>
        </p:nvSpPr>
        <p:spPr>
          <a:xfrm rot="781800">
            <a:off x="1709640" y="31258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722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ole tekstowe 23"/>
          <p:cNvSpPr/>
          <p:nvPr/>
        </p:nvSpPr>
        <p:spPr>
          <a:xfrm rot="781800">
            <a:off x="3421800" y="279468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ole tekstowe 24"/>
          <p:cNvSpPr/>
          <p:nvPr/>
        </p:nvSpPr>
        <p:spPr>
          <a:xfrm rot="781800">
            <a:off x="4356360" y="28407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ole tekstowe 26"/>
          <p:cNvSpPr/>
          <p:nvPr/>
        </p:nvSpPr>
        <p:spPr>
          <a:xfrm rot="781800">
            <a:off x="3556800" y="336780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55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ole tekstowe 27"/>
          <p:cNvSpPr/>
          <p:nvPr/>
        </p:nvSpPr>
        <p:spPr>
          <a:xfrm rot="781800">
            <a:off x="5366160" y="33314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34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ole tekstowe 28"/>
          <p:cNvSpPr/>
          <p:nvPr/>
        </p:nvSpPr>
        <p:spPr>
          <a:xfrm rot="781800">
            <a:off x="4645440" y="37774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6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ole tekstowe 29"/>
          <p:cNvSpPr/>
          <p:nvPr/>
        </p:nvSpPr>
        <p:spPr>
          <a:xfrm rot="781800">
            <a:off x="3048840" y="3732840"/>
            <a:ext cx="6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ole tekstowe 30"/>
          <p:cNvSpPr/>
          <p:nvPr/>
        </p:nvSpPr>
        <p:spPr>
          <a:xfrm rot="781800">
            <a:off x="3951360" y="4317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ole tekstowe 31"/>
          <p:cNvSpPr/>
          <p:nvPr/>
        </p:nvSpPr>
        <p:spPr>
          <a:xfrm rot="781800">
            <a:off x="5090760" y="4594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ole tekstowe 32"/>
          <p:cNvSpPr/>
          <p:nvPr/>
        </p:nvSpPr>
        <p:spPr>
          <a:xfrm rot="781800">
            <a:off x="5416920" y="41695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ole tekstowe 33"/>
          <p:cNvSpPr/>
          <p:nvPr/>
        </p:nvSpPr>
        <p:spPr>
          <a:xfrm rot="781800">
            <a:off x="5977080" y="3868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9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Objaśnienie prostokątne zaokrąglone 4"/>
          <p:cNvSpPr/>
          <p:nvPr/>
        </p:nvSpPr>
        <p:spPr>
          <a:xfrm>
            <a:off x="6300720" y="170496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Sprawdź, które liczby dzielą się przez </a:t>
            </a: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10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1b98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ole tekstowe 7" descr=""/>
          <p:cNvPicPr/>
          <p:nvPr/>
        </p:nvPicPr>
        <p:blipFill>
          <a:blip r:embed="rId1"/>
          <a:stretch/>
        </p:blipFill>
        <p:spPr>
          <a:xfrm>
            <a:off x="2749680" y="2041560"/>
            <a:ext cx="5260680" cy="1652400"/>
          </a:xfrm>
          <a:prstGeom prst="rect">
            <a:avLst/>
          </a:prstGeom>
          <a:ln w="0">
            <a:noFill/>
          </a:ln>
        </p:spPr>
      </p:pic>
      <p:pic>
        <p:nvPicPr>
          <p:cNvPr id="274" name="Obraz 3" descr=""/>
          <p:cNvPicPr/>
          <p:nvPr/>
        </p:nvPicPr>
        <p:blipFill>
          <a:blip r:embed="rId2"/>
          <a:stretch/>
        </p:blipFill>
        <p:spPr>
          <a:xfrm>
            <a:off x="1469880" y="3141720"/>
            <a:ext cx="3859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10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937200" cy="4456080"/>
          </a:xfrm>
          <a:prstGeom prst="rect">
            <a:avLst/>
          </a:prstGeom>
          <a:ln w="0">
            <a:noFill/>
          </a:ln>
        </p:spPr>
      </p:pic>
      <p:sp>
        <p:nvSpPr>
          <p:cNvPr id="277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8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79" name="Grupa 8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80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Elipsa 12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82" name="Elipsa 13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83" name="Obraz 10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ytuł 1" descr=""/>
          <p:cNvPicPr/>
          <p:nvPr/>
        </p:nvPicPr>
        <p:blipFill>
          <a:blip r:embed="rId1"/>
          <a:stretch/>
        </p:blipFill>
        <p:spPr>
          <a:xfrm>
            <a:off x="1073160" y="554040"/>
            <a:ext cx="7016760" cy="1201680"/>
          </a:xfrm>
          <a:prstGeom prst="rect">
            <a:avLst/>
          </a:prstGeom>
          <a:ln w="0">
            <a:noFill/>
          </a:ln>
        </p:spPr>
      </p:pic>
      <p:sp>
        <p:nvSpPr>
          <p:cNvPr id="28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6" name="Objaśnienie prostokątne 5" descr=""/>
          <p:cNvPicPr/>
          <p:nvPr/>
        </p:nvPicPr>
        <p:blipFill>
          <a:blip r:embed="rId2"/>
          <a:stretch/>
        </p:blipFill>
        <p:spPr>
          <a:xfrm>
            <a:off x="-6480" y="1865160"/>
            <a:ext cx="26463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upa 19"/>
          <p:cNvGrpSpPr/>
          <p:nvPr/>
        </p:nvGrpSpPr>
        <p:grpSpPr>
          <a:xfrm>
            <a:off x="1949400" y="4021200"/>
            <a:ext cx="2811600" cy="1592280"/>
            <a:chOff x="1949400" y="4021200"/>
            <a:chExt cx="2811600" cy="1592280"/>
          </a:xfrm>
        </p:grpSpPr>
        <p:pic>
          <p:nvPicPr>
            <p:cNvPr id="288" name="Obraz 6" descr=""/>
            <p:cNvPicPr/>
            <p:nvPr/>
          </p:nvPicPr>
          <p:blipFill>
            <a:blip r:embed="rId3"/>
            <a:srcRect l="16287" t="0" r="17021" b="0"/>
            <a:stretch/>
          </p:blipFill>
          <p:spPr>
            <a:xfrm>
              <a:off x="1949400" y="4021200"/>
              <a:ext cx="947520" cy="14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Obraz 8" descr=""/>
            <p:cNvPicPr/>
            <p:nvPr/>
          </p:nvPicPr>
          <p:blipFill>
            <a:blip r:embed="rId4"/>
            <a:stretch/>
          </p:blipFill>
          <p:spPr>
            <a:xfrm>
              <a:off x="2423160" y="4041000"/>
              <a:ext cx="1490400" cy="15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Obraz 12" descr=""/>
            <p:cNvPicPr/>
            <p:nvPr/>
          </p:nvPicPr>
          <p:blipFill>
            <a:blip r:embed="rId5"/>
            <a:stretch/>
          </p:blipFill>
          <p:spPr>
            <a:xfrm>
              <a:off x="3270600" y="4026960"/>
              <a:ext cx="1490400" cy="157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ole tekstowe 18" descr=""/>
          <p:cNvPicPr/>
          <p:nvPr/>
        </p:nvPicPr>
        <p:blipFill>
          <a:blip r:embed="rId6"/>
          <a:stretch/>
        </p:blipFill>
        <p:spPr>
          <a:xfrm>
            <a:off x="2724120" y="2584440"/>
            <a:ext cx="5408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63560"/>
            <a:ext cx="6881760" cy="4359240"/>
          </a:xfrm>
          <a:prstGeom prst="rect">
            <a:avLst/>
          </a:prstGeom>
          <a:ln w="0">
            <a:noFill/>
          </a:ln>
        </p:spPr>
      </p:pic>
      <p:sp>
        <p:nvSpPr>
          <p:cNvPr id="29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Users\Ania\AppData\Local\Microsoft\Windows\Temporary Internet Files\Content.IE5\AKSHKWQ7\MC900343405[1].wmf"/>
          <p:cNvPicPr/>
          <p:nvPr/>
        </p:nvPicPr>
        <p:blipFill>
          <a:blip r:embed="rId2"/>
          <a:stretch/>
        </p:blipFill>
        <p:spPr>
          <a:xfrm>
            <a:off x="5913360" y="4149720"/>
            <a:ext cx="22654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upa 1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297" name="Grupa 15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298" name="Obraz 18" descr=""/>
              <p:cNvPicPr/>
              <p:nvPr/>
            </p:nvPicPr>
            <p:blipFill>
              <a:blip r:embed="rId3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Elipsa 19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00" name="Elipsa 20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01" name="Obraz 16" descr=""/>
            <p:cNvPicPr/>
            <p:nvPr/>
          </p:nvPicPr>
          <p:blipFill>
            <a:blip r:embed="rId4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raz 17" descr=""/>
            <p:cNvPicPr/>
            <p:nvPr/>
          </p:nvPicPr>
          <p:blipFill>
            <a:blip r:embed="rId5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Symbol zastępczy zawartości 2" descr=""/>
          <p:cNvPicPr/>
          <p:nvPr/>
        </p:nvPicPr>
        <p:blipFill>
          <a:blip r:embed="rId1"/>
          <a:stretch/>
        </p:blipFill>
        <p:spPr>
          <a:xfrm>
            <a:off x="1206360" y="1663560"/>
            <a:ext cx="6894720" cy="4359240"/>
          </a:xfrm>
          <a:prstGeom prst="rect">
            <a:avLst/>
          </a:prstGeom>
          <a:ln w="0">
            <a:noFill/>
          </a:ln>
        </p:spPr>
      </p:pic>
      <p:sp>
        <p:nvSpPr>
          <p:cNvPr id="30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rostokąt zaokrąglony 3"/>
          <p:cNvSpPr/>
          <p:nvPr/>
        </p:nvSpPr>
        <p:spPr>
          <a:xfrm>
            <a:off x="6199200" y="227664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Cennik biletów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na karuzelę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Osoba dorosł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7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Dziecko powyżej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5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Dziecko poniżej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3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07" name="Grupa 15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08" name="Grupa 16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09" name="Obraz 19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20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11" name="Elipsa 21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12" name="Obraz 17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8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5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1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Symbol zastępczy zawartości 2" descr=""/>
          <p:cNvPicPr/>
          <p:nvPr/>
        </p:nvPicPr>
        <p:blipFill>
          <a:blip r:embed="rId1"/>
          <a:stretch/>
        </p:blipFill>
        <p:spPr>
          <a:xfrm>
            <a:off x="1238400" y="1646280"/>
            <a:ext cx="6862680" cy="4376520"/>
          </a:xfrm>
          <a:prstGeom prst="rect">
            <a:avLst/>
          </a:prstGeom>
          <a:ln w="0">
            <a:noFill/>
          </a:ln>
        </p:spPr>
      </p:pic>
      <p:sp>
        <p:nvSpPr>
          <p:cNvPr id="316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17" name="Grupa 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18" name="Grupa 8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19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Elipsa 12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21" name="Elipsa 13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22" name="Obraz 10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raz 14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9:50Z</dcterms:modified>
  <cp:revision>69</cp:revision>
  <dc:subject/>
  <dc:title>Mnożenie i dzielenie w zadaniach</dc:title>
</cp:coreProperties>
</file>